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ng" ContentType="image/png"/>
  <Override PartName="/ppt/media/image7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2AA-8547-4F51-B364-5D9CD101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99F-C9CB-40E2-94C4-9652CADA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214-9ABA-471A-A3FB-B58D088E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9E1-E21D-4449-9E86-30C91E0D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0ACD-369E-4340-85B4-8287128B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894D-A4EB-4A1D-9741-FD026DC1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1F29-AE08-40B2-ADC0-F59B1690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8C8F-8815-43F3-9E80-6DB53882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47B6-A4DA-446B-A3B6-CE20842D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EC23-12C8-427D-B933-482DAD9A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99B7-4DB3-4AEF-A84E-3B480ED4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432C-7B8E-412E-8418-9BF242DF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BA71-3D46-4B29-8D63-A8FEEE00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DC40-B783-481A-B0C1-8B6AB6A6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91C4-76C7-4015-88A1-3AD80E78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C3FA-C078-4C88-8527-E0706DE8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CBD1-A9DE-435F-AD60-1DD03FCB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243E-3A36-4F43-BB9E-D7D976C2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51E0-AAC4-4225-8D1C-CD196A84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9374-1E94-4411-AB37-049B559B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B2D4-6F68-448E-AB73-738A457F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CAA-C6AA-4C72-94A0-29956266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484-65C6-45E4-92AA-3A59CA1F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EB89-816A-40E1-9CCD-BE235CD6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5F71A-6E79-4B14-B049-E88B601A662D}" type="datetime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A3226-E5AD-4153-AA30-401C8D58374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1981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EBE48-782C-47B2-8823-51459766E488}" type="datetime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A0673-1E88-4B9E-AFEB-7CDF7B5856E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762120"/>
          </a:xfrm>
          <a:prstGeom prst="rect">
            <a:avLst/>
          </a:prstGeom>
          <a:solidFill>
            <a:srgbClr val="aed3ff"/>
          </a:solidFill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HOKING</a:t>
            </a: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555920" y="3768840"/>
            <a:ext cx="6032160" cy="1590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A LIFE THREATENING EMERGENCY!!!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178080" y="5783400"/>
            <a:ext cx="291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2075040" y="5783400"/>
            <a:ext cx="44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By: Maria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ornell</a:t>
            </a:r>
            <a:endParaRPr b="0" lang="en-US" sz="2000" spc="-1" strike="noStrike">
              <a:solidFill>
                <a:srgbClr val="ff8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04000" y="506520"/>
            <a:ext cx="1568520" cy="1898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61498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57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469880"/>
            <a:ext cx="833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IN LIFE THREATENING EMERGENCIES, IMMEDIATE FIRST AID IS ESSENTIAL!</a:t>
            </a:r>
            <a:endParaRPr b="0" lang="en-US" sz="2800" spc="-1" strike="noStrike">
              <a:solidFill>
                <a:srgbClr val="ff8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8051760" y="547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103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97160" y="2592360"/>
            <a:ext cx="837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Learning basic first-aid procedures for choking and cardiopulmonary </a:t>
            </a:r>
            <a:endParaRPr b="0" lang="en-US" sz="20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resuscitation will help you deal with medical emergencies and save lives.</a:t>
            </a:r>
            <a:endParaRPr b="0" lang="en-US" sz="2000" spc="-1" strike="noStrike">
              <a:solidFill>
                <a:srgbClr val="ff8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506520" y="3294000"/>
            <a:ext cx="828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It is wise to know the universal sign of choking. A choking person</a:t>
            </a:r>
            <a:endParaRPr b="0" lang="en-US" sz="20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who cannot talk will grab his or her throat. Other signs of choking include problems with breathing and turning reddish, then bluish. </a:t>
            </a:r>
            <a:endParaRPr b="0" lang="en-US" sz="20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The person may also faint.The hand will usually be on the throat </a:t>
            </a:r>
            <a:endParaRPr b="0" lang="en-US" sz="20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with the finger and thumb extended.</a:t>
            </a:r>
            <a:endParaRPr b="0" lang="en-US" sz="2000" spc="-1" strike="noStrike">
              <a:solidFill>
                <a:srgbClr val="ff8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3565440" y="2462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043520" y="4592520"/>
            <a:ext cx="253332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0120" y="1846440"/>
            <a:ext cx="70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8000"/>
                </a:solidFill>
                <a:latin typeface="Arial"/>
              </a:rPr>
              <a:t>FIRST AID FOR A CHOKING ADULT</a:t>
            </a:r>
            <a:endParaRPr b="0" lang="en-US" sz="3200" spc="-1" strike="noStrike">
              <a:solidFill>
                <a:srgbClr val="ff8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1252440" y="2616120"/>
            <a:ext cx="70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-Stand behind the victim, sliding your arms under his or her armpits</a:t>
            </a: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and wrapping your arms around his or her waist. Put the thumb side</a:t>
            </a: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of your wrist against the midline of the person’s abdomen, between </a:t>
            </a: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the waist and the rib cage. </a:t>
            </a: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1152000" y="4049640"/>
            <a:ext cx="71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-Grasp your fist with your other hand and apply pressure inward and</a:t>
            </a: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Up toward the person’s diaphragm in one smooth movement. Deliver</a:t>
            </a: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Up to five rapid inward thrusts up toward the diaphragm. Once the </a:t>
            </a: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Object is dislodged, give rescue breathing if needed. </a:t>
            </a: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219800" y="290520"/>
            <a:ext cx="1555920" cy="1555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2968560"/>
            <a:ext cx="1244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56320" y="1549440"/>
            <a:ext cx="713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FIRST AID FOR CHOKING INFANTS AND </a:t>
            </a:r>
            <a:endParaRPr b="0" lang="en-US" sz="28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YOUNG CHILDREN</a:t>
            </a:r>
            <a:endParaRPr b="0" lang="en-US" sz="2800" spc="-1" strike="noStrike">
              <a:solidFill>
                <a:srgbClr val="ff8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622440" y="278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876240" y="2495520"/>
            <a:ext cx="6902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-Hold the infant or young child face down on your forearm with the head lower than the trunk. You must support the patients head by placing a hand around the lower jaw and chest. Give the victim four</a:t>
            </a:r>
            <a:endParaRPr b="0" lang="en-US" sz="16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Blows with the heel of your hand to the spinal area between the </a:t>
            </a:r>
            <a:endParaRPr b="0" lang="en-US" sz="16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Victim’s shoulder blades.</a:t>
            </a:r>
            <a:endParaRPr b="0" lang="en-US" sz="1600" spc="-1" strike="noStrike">
              <a:solidFill>
                <a:srgbClr val="ff8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801720" y="3809880"/>
            <a:ext cx="7691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-Turn the victim face up on your thigh, making sure that you provide adequate </a:t>
            </a:r>
            <a:endParaRPr b="0" lang="en-US" sz="16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support for the head. Ensure that the head is lower than the trunk. Give four slow,</a:t>
            </a:r>
            <a:endParaRPr b="0" lang="en-US" sz="16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distinct chest thrusts by pressing two or three fingers into the middle of the victim’s </a:t>
            </a:r>
            <a:endParaRPr b="0" lang="en-US" sz="16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chest, with the index finger placed just below an imaginary line drawn directly </a:t>
            </a:r>
            <a:endParaRPr b="0" lang="en-US" sz="16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between their nipples.</a:t>
            </a:r>
            <a:endParaRPr b="0" lang="en-US" sz="1600" spc="-1" strike="noStrike">
              <a:solidFill>
                <a:srgbClr val="ff8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48640" y="324000"/>
            <a:ext cx="1858680" cy="123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2495520"/>
            <a:ext cx="87624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2:54:02Z</dcterms:created>
  <dc:creator>kms kms</dc:creator>
  <dc:description/>
  <dc:language>en-US</dc:language>
  <cp:lastModifiedBy>Kraybill Campus LMS</cp:lastModifiedBy>
  <dcterms:modified xsi:type="dcterms:W3CDTF">2011-05-26T16:07:49Z</dcterms:modified>
  <cp:revision>11</cp:revision>
  <dc:subject/>
  <dc:title>CHOKING  </dc:title>
</cp:coreProperties>
</file>